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F2236-BF29-4A4A-B5FE-708EBF750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F82A-06DC-48C0-A0C3-6D174218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C5F9-E64D-4288-852A-A6C6B7F72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0584F-71B4-478A-9326-16AB4489E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1074C-A87D-4AED-A347-6D5FC5DBD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036A6-6295-4196-AFD1-EB4EE7EC2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31190-AA3D-4BD4-A06E-0EEE4C9E7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0B85E-8115-49AB-BC1F-136B3FFC3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29AFF-44F8-4143-9815-F08AE73EF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D722-38CE-482C-9599-BF6B512D8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EAD7-BC27-4425-8222-11CE610F8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7513-E3F6-4A14-89A5-518FD0C77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C6A4C-273E-465D-94B1-437A1949C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D3124-61F7-4102-9F03-7D3541738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19C01-CC26-45A2-9646-1096F6A9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33E4B-09C6-45AC-8624-AE5E4AD7B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C0178-E838-4EEA-A544-3D5494DC1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A2CB5-F878-4ED5-A500-FAAD750E4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7A1F6-19AC-43C9-905F-D16182769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BF5CA-59F8-4035-A260-803F9ABFE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B9E8D-A268-4A10-BD8E-2A0EFBDDA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EE3B1-A731-4F6F-A302-7923C1D08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E5C33-49BB-4147-B998-7FD38A93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0E4F5-F9BB-49A7-8486-64C291293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D69A2-A316-4A27-938B-05F4488B8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8F28A-F88F-4067-822B-9C6C49FEC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62AFB-2859-41A7-9C1A-5B926A216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4712D-FF15-4A12-B978-C25835506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48F25-9A8D-426D-81F3-865AD86B8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0FE3DE-C0B0-4DD3-8B38-DC192A78D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F16C8-D4FF-4BF5-AA3D-C80A352CFE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9386F-6A2E-4EA6-9B81-E9D2A1B7F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3B954-6B50-48CF-9232-CDDF51BDB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EB91C-121B-478A-98AD-BCA9D441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E3ACC-F0D9-464E-B9A1-D46869E88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B7E8D-3188-439E-BAF3-8BA8C5BF0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6DBAF-31A1-4C69-AB4F-A049EFB54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D8BEE-69E6-4408-889E-9AE2B4DCA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6BF04-19AD-4B84-8FCB-6D4845D84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2B6CD-CAB3-4534-912D-5378C5A76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6B3FC-1FFD-4C75-A045-3FE75963A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B4AE3-BAC0-4558-A726-E5A168CB7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300F39-F2AA-4478-80FE-4B2C2AE100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A962-CF49-4D10-AD93-162A50262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7A3D4-5DE7-4034-9920-AC9BBD9AE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D0CE-8B78-4196-9C19-EC0CFB6ED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3CFA-A817-4B90-BB2F-D78641E4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DFE2-1F62-4934-A464-79B8BD9B4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3A5C-EBCF-40D3-ACCC-41D1EFC838B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3830-D79C-4053-8440-5A086594D0A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59" name=""/>
          <p:cNvGrpSpPr/>
          <p:nvPr/>
        </p:nvGrpSpPr>
        <p:grpSpPr>
          <a:xfrm>
            <a:off x="0" y="0"/>
            <a:ext cx="9140760" cy="6851520"/>
            <a:chOff x="0" y="0"/>
            <a:chExt cx="9140760" cy="6851520"/>
          </a:xfrm>
        </p:grpSpPr>
        <p:sp>
          <p:nvSpPr>
            <p:cNvPr id="16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72" name=""/>
            <p:cNvGrpSpPr/>
            <p:nvPr/>
          </p:nvGrpSpPr>
          <p:grpSpPr>
            <a:xfrm>
              <a:off x="304920" y="3625920"/>
              <a:ext cx="1990440" cy="1465200"/>
              <a:chOff x="304920" y="3625920"/>
              <a:chExt cx="1990440" cy="1465200"/>
            </a:xfrm>
          </p:grpSpPr>
          <p:sp>
            <p:nvSpPr>
              <p:cNvPr id="17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0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C7FF-B609-4657-9423-DF39B8CE376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39" name=""/>
          <p:cNvGrpSpPr/>
          <p:nvPr/>
        </p:nvGrpSpPr>
        <p:grpSpPr>
          <a:xfrm>
            <a:off x="0" y="0"/>
            <a:ext cx="9140760" cy="6851520"/>
            <a:chOff x="0" y="0"/>
            <a:chExt cx="9140760" cy="6851520"/>
          </a:xfrm>
        </p:grpSpPr>
        <p:sp>
          <p:nvSpPr>
            <p:cNvPr id="24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04920" y="3625920"/>
              <a:ext cx="1990440" cy="1465200"/>
              <a:chOff x="304920" y="3625920"/>
              <a:chExt cx="1990440" cy="1465200"/>
            </a:xfrm>
          </p:grpSpPr>
          <p:sp>
            <p:nvSpPr>
              <p:cNvPr id="25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8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8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E79B-7297-4EE9-800E-AF10FCC4189F}"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RUMOSUL</a:t>
            </a:r>
            <a:endParaRPr b="0" lang="en-US" sz="1400" spc="-1" strike="noStrike">
              <a:solidFill>
                <a:srgbClr val="ffff99"/>
              </a:solidFill>
              <a:latin typeface="Arial"/>
            </a:endParaRPr>
          </a:p>
        </p:txBody>
      </p:sp>
      <p:sp>
        <p:nvSpPr>
          <p:cNvPr id="319"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Estetică, clasa a XII-a,</a:t>
            </a:r>
            <a:r>
              <a:rPr b="0" lang="ro-RO" sz="1000" spc="-1" strike="noStrike">
                <a:solidFill>
                  <a:srgbClr val="ffffff"/>
                </a:solidFill>
                <a:latin typeface="Arial"/>
              </a:rPr>
              <a:t> Adrian Iorgulescu, Doina Pungă, Gheorghe Stroia)</a:t>
            </a:r>
            <a:endParaRPr b="0" lang="en-US" sz="1000" spc="-1" strike="noStrike">
              <a:solidFill>
                <a:srgbClr val="ffffff"/>
              </a:solidFill>
              <a:latin typeface="Verdana"/>
            </a:endParaRPr>
          </a:p>
        </p:txBody>
      </p:sp>
      <p:sp>
        <p:nvSpPr>
          <p:cNvPr id="32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
        <p:nvSpPr>
          <p:cNvPr id="321"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siunea iunie - iulie</a:t>
            </a:r>
            <a:endParaRPr b="0" lang="en-US" sz="1000" spc="-1" strike="noStrike">
              <a:solidFill>
                <a:srgbClr val="ffffff"/>
              </a:solidFill>
              <a:latin typeface="Arial"/>
            </a:endParaRPr>
          </a:p>
        </p:txBody>
      </p:sp>
      <p:sp>
        <p:nvSpPr>
          <p:cNvPr id="322" name=""/>
          <p:cNvSpPr txBox="1"/>
          <p:nvPr/>
        </p:nvSpPr>
        <p:spPr>
          <a:xfrm>
            <a:off x="2690640" y="3143160"/>
            <a:ext cx="37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2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25" name="Picture 8" descr=""/>
          <p:cNvPicPr/>
          <p:nvPr/>
        </p:nvPicPr>
        <p:blipFill>
          <a:blip r:embed="rId1"/>
          <a:stretch/>
        </p:blipFill>
        <p:spPr>
          <a:xfrm>
            <a:off x="5292720" y="1773360"/>
            <a:ext cx="3333600" cy="33336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rile de existenţă ale frumosulu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natural, asigurat de existenţa elementelor primordial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can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m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logice.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uman, constituit din:</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corpului omenesc, alcătuită în principal din elemente naturale, native, dar şi dintr-o îndelungată şlefuire civiliza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sufletească, rezultat aproape integral al eforturilor de înnobilare umană;</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etică a vastelor relaţii dintre oameni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ambientală a locului şi rezultatele muncii omeneşt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artistic. Existenţa sa este asigurată […] d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ourile reflectării frumuseţii din realitat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ăţile demiurgice ale omului de artă care, pornind de la lumea reală, făureşte o realitate nou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4</cp:lastModifiedBy>
  <dcterms:modified xsi:type="dcterms:W3CDTF">2012-06-18T10:59:46Z</dcterms:modified>
  <cp:revision>39</cp:revision>
  <dc:subject/>
  <dc:title>SALARIUL</dc:title>
</cp:coreProperties>
</file>